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BF4-D2EE-4CC9-AAF0-C5EE9BE8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4C1-8A74-4B65-B9A4-5484E1B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ED1-D187-4BB3-B1EE-C2A5EF0E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7FE-30EC-47A6-A6FC-0C8D386F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FE6-22A0-4956-98AD-4ACBE555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AEF-9434-46AB-83CB-BAD2F412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398-E58A-4FC5-A3AD-1B44A2E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E7D-8497-434A-BB19-41C7BD4F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AFA-0D6C-4789-AF37-4261E0E5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6BF-0F2B-4695-8A94-5E0D993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29E-E8CE-411C-AFAF-72B4F43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CA4-8919-40F9-99EB-E9E08312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B53-5CEB-45C9-8F61-D01759E3198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is documentos\Sin título-2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Mis documentos\Sin título-2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Mis documentos\Sin título-2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Mis documentos\Sin título-2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4:16:42Z</dcterms:created>
  <dc:creator>Grupo Editorial</dc:creator>
  <dc:description/>
  <dc:language>en-US</dc:language>
  <cp:lastModifiedBy>TORRES</cp:lastModifiedBy>
  <dcterms:modified xsi:type="dcterms:W3CDTF">2010-12-18T22:08:16Z</dcterms:modified>
  <cp:revision>1</cp:revision>
  <dc:subject/>
  <dc:title>Sin título de diapositiva</dc:title>
</cp:coreProperties>
</file>